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E9D-25A4-44C1-9215-80A89223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E1E-D991-4A2B-9B3B-E3118398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3CD7-7B8A-4677-A6CA-05480AC7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697-2B59-4CC6-A441-B977A4EA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255-8E39-40BB-8524-69878FF1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18A-98AD-4D2F-9648-84A65730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9CF-2452-49CE-8296-F9A23FD6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D49-7C4F-467A-9A95-E9B542CD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542-4757-4D86-9225-5F248450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FF13-4885-4ECA-B9E5-8B6856A6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1F9-B819-4913-BB86-14AE7449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CAC-D3DA-4376-BCD9-AC7AED1F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1C95-8A5C-4367-84F3-E8FCBC099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om Lin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 From the He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ed by Parker Palmer’s book “Teach from the 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08360" y="907920"/>
            <a:ext cx="4896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your heart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ne with integri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from within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 in yourself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781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59280" y="2060280"/>
            <a:ext cx="428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difference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with oth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the magic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der of discover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195560"/>
            <a:ext cx="500364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773360"/>
            <a:ext cx="4140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afe-haven and Enrich the learnin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the soul and Discover new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11640" y="1600200"/>
            <a:ext cx="493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572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from the heart and  Find the person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direct the learning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TLite journe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16360" y="1600200"/>
            <a:ext cx="4427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the documents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manual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colleagues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hands-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264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04:47:08Z</dcterms:created>
  <dc:creator>Denise</dc:creator>
  <dc:description/>
  <dc:language>en-US</dc:language>
  <cp:lastModifiedBy>Denise</cp:lastModifiedBy>
  <dcterms:modified xsi:type="dcterms:W3CDTF">2008-05-04T06:25:23Z</dcterms:modified>
  <cp:revision>2</cp:revision>
  <dc:subject/>
  <dc:title>The Bottom Line: Teach From the Heart</dc:title>
</cp:coreProperties>
</file>